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1DA-7928-488C-A711-7B71C2E5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B80-2EB2-407E-BD62-9C967688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430-2D89-46CE-A37E-C096E371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F4B-4D81-4328-89C3-A5369784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0E78-65F1-4535-8400-AE3742D2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C227-A76E-45B0-B719-906E6EB8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9827-46C8-4A0C-8DC0-8436A0F9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27FD-F27A-41EC-BD43-45A49D8F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E1E6-23B3-4C14-8477-98F05EAA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2CBD-CC6E-4201-9A3F-B24B5C91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8A54-42EE-42AA-8EBB-D991366A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89B-98D3-49D1-8FA9-69FB06DA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93EF-CF33-46C8-B5F8-90E1A060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D191-1E19-4FA3-A5C8-3582B463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A248-05C2-49DF-A557-62126346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65D7-3245-49D6-9D9D-B288CA44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524E-B997-4935-BC5C-DC54F387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649-15D3-4A60-8314-1476E8E6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E6C-41BD-4B98-9F1D-096C5011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E10-920E-4DE1-B46C-FBEAA79C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B11-4B01-4BB2-B367-663CE1D0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137-BC0D-4D56-AA7A-8108C20E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540-4388-4593-99CA-DE839D43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692-CB4A-460E-AC8E-8E148207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BCE3-06B1-44D1-9112-5ADD31001C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8A38-2468-42C4-BF9F-FB8099C5D9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 Personal Learning Profile 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n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out that the left hemisphere of my brain is less dominate and the right hemisphere of my brain is domin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intelligence type is physical, computer smart, and technology that means that I’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coordin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t compu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important to how your brains works because so you can how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use what I have learned about the way my brain works in school. I can do this when I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earning style is Abstract Sequential that means that I imagitive and neat and orde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earning technique is how I learn the best that means that I learn by hearing and se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5:31Z</dcterms:created>
  <dc:creator>dornell frazier</dc:creator>
  <dc:description/>
  <dc:language>en-US</dc:language>
  <cp:lastModifiedBy>dornell frazier</cp:lastModifiedBy>
  <dcterms:modified xsi:type="dcterms:W3CDTF">2010-10-26T13:44:24Z</dcterms:modified>
  <cp:revision>4</cp:revision>
  <dc:subject/>
  <dc:title>My Personal Learning Profile by Dornell Frazier</dc:title>
</cp:coreProperties>
</file>